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86343"/>
        <c:axId val="52445469"/>
      </c:barChart>
      <c:catAx>
        <c:axId val="97086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45469"/>
        <c:crosses val="autoZero"/>
        <c:auto val="1"/>
        <c:lblAlgn val="ctr"/>
        <c:lblOffset val="100"/>
        <c:noMultiLvlLbl val="0"/>
      </c:catAx>
      <c:valAx>
        <c:axId val="52445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86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929-AF8A-41EB-8389-B72C1514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E07-F7AE-4B8F-91F7-E46187E3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197-5B91-4383-A569-AFC13C76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ED9-D27C-497A-91E7-222FAAB3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FCC-68CD-49AC-8736-7FA79BFE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919-6A0F-4B08-9BE4-C10F5B02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F96-B659-4897-82BC-99112187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73E-A84B-4A65-95F7-FA2CA9C8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50E-3346-4318-B003-40EA0DD8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043-FFBE-4E38-8060-6F88C849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255-6BF5-45D5-A5AD-77BC313C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D74-5BC6-4383-8494-30DF2716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84DF1-D7D1-4060-B887-268B5198AB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