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82285"/>
        <c:axId val="37872548"/>
      </c:barChart>
      <c:catAx>
        <c:axId val="403822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2548"/>
        <c:crosses val="autoZero"/>
        <c:auto val="1"/>
        <c:lblAlgn val="ctr"/>
        <c:lblOffset val="100"/>
        <c:noMultiLvlLbl val="0"/>
      </c:catAx>
      <c:valAx>
        <c:axId val="37872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822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B60-9DAD-4554-9ECF-AB31A726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98F-3A58-400A-9363-A141BF8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E9B-3311-4636-A95A-C7C98CFB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BAF-8D16-453C-84B2-C77D8232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73C-6090-4171-BB26-A2D50318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458-7A1C-4ADC-B934-67702B88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51CE-59AE-40D4-A62A-63964C25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95F-E99F-4CE7-85FE-850F7BE8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F85-53F8-4328-8884-4060E79F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87D0-E425-41B4-87AB-0A7931D4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452-15CF-4988-9F97-073805F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123-44B4-4DFC-A6AD-C570C67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9F6D4-7A82-4B38-A915-D19C1D47AE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