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147540"/>
        <c:axId val="97684995"/>
      </c:barChart>
      <c:catAx>
        <c:axId val="721475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84995"/>
        <c:crosses val="autoZero"/>
        <c:auto val="1"/>
        <c:lblAlgn val="ctr"/>
        <c:lblOffset val="100"/>
        <c:noMultiLvlLbl val="0"/>
      </c:catAx>
      <c:valAx>
        <c:axId val="976849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1475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4AFB-FF6F-4B6C-B547-37D69543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DA65-9BC6-4A6D-9EA7-43A6B33F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0A75-3A72-492C-AB5F-E7BBC083D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CF05-2641-438A-9EA9-BFFED8046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2E2E-58ED-45DE-A1F9-D001724D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DBED-99F4-4468-B38C-E4E8D71A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1D2D-AB74-4D32-85C8-80C3F597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AC9A-C1CD-4EDD-8129-D9A8CD2C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500B-F25A-4A60-B0E0-0E24754A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9806-DD96-441D-9F0B-96745DA1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6980-8436-4E83-BF9B-D0DB23B7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3D46-544C-4EB9-8BAC-57AF46AC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B53E4-EAD3-42D1-AC59-047741A36B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