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97391"/>
        <c:axId val="79971155"/>
      </c:barChart>
      <c:catAx>
        <c:axId val="40197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71155"/>
        <c:crosses val="autoZero"/>
        <c:auto val="1"/>
        <c:lblAlgn val="ctr"/>
        <c:lblOffset val="100"/>
        <c:noMultiLvlLbl val="0"/>
      </c:catAx>
      <c:valAx>
        <c:axId val="79971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7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16C-71FA-4B0D-B5AD-DE570779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83B-0283-4865-82DB-C32C474D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EC1-A260-4F40-A81F-83F538DC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E99-8467-4072-B86C-64168762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8C8-FB20-4354-B9DE-05A2384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547-3EE9-495C-A836-3550FD0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46D-F7AA-4F2F-829C-D2BEC7A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129-932A-408D-8409-85F7DDAE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FD7-AABE-4DEB-AFC0-0F865EDC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A2E-FA98-4BA3-A8C7-DE803D5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BF3-28BF-48CE-81FC-4859DF5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338-4D53-4B3B-8EAF-456BD82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F0646-CA6D-4885-A866-EAA1104D59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