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83831"/>
        <c:axId val="84167152"/>
      </c:barChart>
      <c:catAx>
        <c:axId val="72983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67152"/>
        <c:crosses val="autoZero"/>
        <c:auto val="1"/>
        <c:lblAlgn val="ctr"/>
        <c:lblOffset val="100"/>
        <c:noMultiLvlLbl val="0"/>
      </c:catAx>
      <c:valAx>
        <c:axId val="84167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3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491-C2AD-44F9-B623-047959C3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8FB-8461-4847-A6AA-F906283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B76-A4B8-4976-A2BB-64737F4D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DB4-3FDA-47D1-85A5-FD78B24A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1C4-1F6F-4998-992B-FBDC876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B0E-72DA-47C0-A772-FAF0F3E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A0C-D219-43E2-BAC5-17E4AA68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780-121D-4209-8D0B-90FC01B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A1C-2986-4F29-854D-B9478A9D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E59-7276-4C79-825F-F0F3810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910-09B1-40F3-AADC-6EB8058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FC4-3C0D-41EA-BCF4-B3B6652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7B758-0971-4819-A535-E050B2FDB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