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43331"/>
        <c:axId val="48335791"/>
      </c:barChart>
      <c:catAx>
        <c:axId val="49343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35791"/>
        <c:crosses val="autoZero"/>
        <c:auto val="1"/>
        <c:lblAlgn val="ctr"/>
        <c:lblOffset val="100"/>
        <c:noMultiLvlLbl val="0"/>
      </c:catAx>
      <c:valAx>
        <c:axId val="48335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3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4B1-E9F8-468A-9A19-2BECD57E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66F-A154-406E-B4F3-396A9672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F8D-F486-400E-9370-592A1153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19B-A638-404E-A96A-98EEB8A4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BA2-7C21-474E-950E-28BBEAA6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531-BEDD-40BD-BE7A-B7B4B8E1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180-D68B-4B23-AF04-41A91DA6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D12-02E7-45BA-806B-BC38EC11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574-0DE8-42B1-9218-77301202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66B-111C-4CCF-9EB2-97E0581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AE1-4DA0-4A7E-B894-1F206E23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F36-496D-4140-B720-5BCF138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BBAB1-FE71-4544-9BAA-5058090180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