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7095253"/>
        <c:axId val="74983624"/>
      </c:barChart>
      <c:catAx>
        <c:axId val="370952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983624"/>
        <c:crosses val="autoZero"/>
        <c:auto val="1"/>
        <c:lblAlgn val="ctr"/>
        <c:lblOffset val="100"/>
        <c:noMultiLvlLbl val="0"/>
      </c:catAx>
      <c:valAx>
        <c:axId val="749836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0952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E82D-819B-4B32-9D59-E2F73FA3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3E7-D542-41B4-A9E8-12B178BD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A4E0-B70B-43CC-A309-478FBBF3C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B12D-7455-4E82-AC5F-9E12CBC37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DF98-AF73-439C-B671-D525328E7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FD4B-0347-4837-82A4-5CE4AA2AF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B45C-D680-4028-8BC6-34DBB4EC8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28D6F-96EE-44F8-9BA2-C9942FDCF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2A7-4BEE-45A6-822A-659CC4183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3CFE-ACAE-4990-A317-4F56A01AE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6A61-0A72-4A3F-80F6-D9F90F31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9666-B0AC-4D72-9DE0-73F79762C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EE029A-D42E-4D2C-8B04-D95EC13793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