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196874"/>
        <c:axId val="13755224"/>
      </c:barChart>
      <c:catAx>
        <c:axId val="10196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55224"/>
        <c:crosses val="autoZero"/>
        <c:auto val="1"/>
        <c:lblAlgn val="ctr"/>
        <c:lblOffset val="100"/>
        <c:noMultiLvlLbl val="0"/>
      </c:catAx>
      <c:valAx>
        <c:axId val="13755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96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B73-FC29-487C-A8B1-EB5CCCE8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DFF-6167-46D9-8E04-E9DAE052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213-2A69-4B41-99EC-65C4F62B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744-6A6A-425C-ACEC-B7B382EE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359-716A-4692-AA34-2506FDE0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BFF-E354-484D-858F-691A731E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70C-2ADB-4A23-B800-AEFAAAFD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518-7038-4CC2-92AB-7F3F301F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D2B-6977-4164-B252-B40DFE68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F24-D5DA-4B8F-9C52-1B0BEF62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F41-A35E-4AFB-9CB8-273EC93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C38-C04B-4CED-AD2E-3413F191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FD9A5-36A1-4EA4-A66A-382BFB0A0A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