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329149"/>
        <c:axId val="77852731"/>
      </c:barChart>
      <c:catAx>
        <c:axId val="983291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852731"/>
        <c:crosses val="autoZero"/>
        <c:auto val="1"/>
        <c:lblAlgn val="ctr"/>
        <c:lblOffset val="100"/>
        <c:noMultiLvlLbl val="0"/>
      </c:catAx>
      <c:valAx>
        <c:axId val="778527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291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FA5B-2CB1-4244-8212-EE92C5ECD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569B-4817-4165-919A-C320F2AF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B833-1D1C-4135-830A-CDF291727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3790-8C81-450C-AC2B-6ECAA162F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26D7-9E67-4501-9DE6-7DF5870B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582C-DD3C-4413-9D17-06CDB0DC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933D-CD93-407E-AB5D-EC31EA81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6FDC-718A-4E39-9D81-57140CF8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8BAB-D666-4A3A-BC1B-5005CD97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298A-1036-40B6-9613-AE23F162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5792-B8B9-4863-BE12-78B99C7E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F6F2-AEC6-4E0F-9081-59537FC9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93866-96AE-485A-B377-3EAFEC334F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