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5261"/>
        <c:axId val="14434098"/>
      </c:barChart>
      <c:catAx>
        <c:axId val="8335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34098"/>
        <c:crosses val="autoZero"/>
        <c:auto val="1"/>
        <c:lblAlgn val="ctr"/>
        <c:lblOffset val="100"/>
        <c:noMultiLvlLbl val="0"/>
      </c:catAx>
      <c:valAx>
        <c:axId val="14434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5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425-540C-4F50-976D-E5AEACFC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791-5947-49AB-B226-5943B370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868-8E6B-4D63-86BD-D8BBAB7B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D30-EB64-438D-92FE-4C29345A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A55E-CD46-41F7-817E-CDC8CC9F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FD7-8942-4F55-819A-CC9AA844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E91-3F3B-41FA-B208-27D96AA5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94C-B70D-4BB6-9411-1754EEC4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2D9-6E5B-4EC6-BCD2-BC9A8FBB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634-6BB0-46B3-A5E4-00C4856D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A2FA-A156-458A-8E92-8A9EE2E7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BDA-2495-46A2-8A38-AF5C21BA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5D844-D3CA-48C6-84F4-F8F682F9E5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