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35425"/>
        <c:axId val="96643031"/>
      </c:barChart>
      <c:catAx>
        <c:axId val="90635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43031"/>
        <c:crosses val="autoZero"/>
        <c:auto val="1"/>
        <c:lblAlgn val="ctr"/>
        <c:lblOffset val="100"/>
        <c:noMultiLvlLbl val="0"/>
      </c:catAx>
      <c:valAx>
        <c:axId val="96643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5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730-51E3-4321-8C45-6A208FC5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547-3627-4422-BAF3-19CCFB1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F94-9ACA-43AF-9091-01BA9372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18C-8DEB-47BE-988C-6E43EE7F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81D-2799-4F82-9975-E406C4AD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65B-9B55-4C73-B2A0-3FB6774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4BC-6F4D-41D5-B7A5-FAF8EC4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C22-D831-40D5-AC52-B526F0B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F80-FFC7-441F-B586-C49E146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4D4-DC51-426A-80BC-C064591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558-F6A8-4D99-AC36-E7E1FD3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3FD-257E-4ABE-A98B-2637CC4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6860B-1072-4474-8689-B2E8197F0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