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39169"/>
        <c:axId val="71999149"/>
      </c:barChart>
      <c:catAx>
        <c:axId val="61839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99149"/>
        <c:crosses val="autoZero"/>
        <c:auto val="1"/>
        <c:lblAlgn val="ctr"/>
        <c:lblOffset val="100"/>
        <c:noMultiLvlLbl val="0"/>
      </c:catAx>
      <c:valAx>
        <c:axId val="71999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9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41E-9ED4-4633-9DE8-DD525AA5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EA7-53F1-4D70-94BE-945B4B2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AFA-C15D-4C3F-A90F-31E8B64C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8DF-468C-4CF6-BDD1-86092CE1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1A6-5E4B-46B3-AD28-F542885D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2C7-C99B-4FBD-9F82-B40452F9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A1D-D113-4EFA-BD38-61CF2BA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4CE-4E2A-4431-863B-3F1DC3DA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649-9D0F-4382-9D15-A67081D4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0E7-3F20-40C8-B758-E1A6A508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84C-7A39-4D5C-9906-D07D81D5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0C7-3B2C-4345-BDE4-18A348D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4C57C-C34E-4927-86E3-48E80C1F66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