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91943"/>
        <c:axId val="52036729"/>
      </c:barChart>
      <c:catAx>
        <c:axId val="30791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36729"/>
        <c:crosses val="autoZero"/>
        <c:auto val="1"/>
        <c:lblAlgn val="ctr"/>
        <c:lblOffset val="100"/>
        <c:noMultiLvlLbl val="0"/>
      </c:catAx>
      <c:valAx>
        <c:axId val="52036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91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E6A-44A1-4EC9-B5CE-1B31BAF4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BA8-6D8E-408D-B3BD-14B781DB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B5F-E362-4830-8B38-197C5537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F52-DA89-42EB-BB0D-66CC97A8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A8E-54A6-4EF5-B872-D534E50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5F6-7715-472D-8409-E253222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65D-6321-4558-995B-8031EA0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66E-466D-4D80-894A-47A8AEC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374-7954-44E6-A8CC-99F6E829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103-44EA-46F4-8E54-A587455F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138-BB57-4462-BB91-9149912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ED4-E2B9-479C-9369-D30C406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A70E-7D08-40C5-B12D-394626861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