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12178"/>
        <c:axId val="18359424"/>
      </c:barChart>
      <c:catAx>
        <c:axId val="29612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59424"/>
        <c:crosses val="autoZero"/>
        <c:auto val="1"/>
        <c:lblAlgn val="ctr"/>
        <c:lblOffset val="100"/>
        <c:noMultiLvlLbl val="0"/>
      </c:catAx>
      <c:valAx>
        <c:axId val="18359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12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FB4-25F7-435B-A33F-14059AF5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077-B84F-439D-A65D-01B225EC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615-F94A-43C8-AA44-7AF01BC5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CC6-5F8F-4938-81C5-46411966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6A2-591D-4DBC-A2FD-8F55815B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378-EB29-42D4-9B8E-7F980FFB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C41-B111-41C2-8030-8D1D6CAB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F93-A55B-4828-B742-2F2C45A0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029-256B-4E27-907D-EA472CD3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11C-0841-4B48-95A4-6A5962D1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FB1-AAF1-421C-9905-84C3231D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7C4-2FB8-4EAB-A80C-F0445332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C4038-47B0-44FD-A5BD-8C5597072F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