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76083"/>
        <c:axId val="78004384"/>
      </c:barChart>
      <c:catAx>
        <c:axId val="53976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04384"/>
        <c:crosses val="autoZero"/>
        <c:auto val="1"/>
        <c:lblAlgn val="ctr"/>
        <c:lblOffset val="100"/>
        <c:noMultiLvlLbl val="0"/>
      </c:catAx>
      <c:valAx>
        <c:axId val="780043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76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F2E-4A1C-4DC4-B5B2-7E23B0C3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FCAA-08F7-4D95-B9AD-59818827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880-9CF2-40AB-A787-059F414C6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797-8112-402E-9D76-9F1F7081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73A4-02E6-4CC0-ABFC-387FBE79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E046-510F-4998-BE50-4E1E78DD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36CE-85B8-4826-A16C-05F2FD91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BBB9-AC62-4130-B27B-F174AF08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A99-CE77-40FD-B6FE-A5B1AFEF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2A26-8B66-4CAC-BD17-C1CABFDC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25E3-9E0D-485B-944A-116ACCC1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03A-49F6-439C-9070-564485FD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B39F2-C3B0-460C-8122-BE33DFBFE9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