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810524"/>
        <c:axId val="31557926"/>
      </c:barChart>
      <c:catAx>
        <c:axId val="458105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557926"/>
        <c:crosses val="autoZero"/>
        <c:auto val="1"/>
        <c:lblAlgn val="ctr"/>
        <c:lblOffset val="100"/>
        <c:noMultiLvlLbl val="0"/>
      </c:catAx>
      <c:valAx>
        <c:axId val="315579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8105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CF4B-5E71-44F1-9457-0EA969F9E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097A-5A91-4C3C-9392-ECE9A5C7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2FF1-789E-42F7-9D9C-4FCFB1B0D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A04B-5FC7-4AB1-8DA3-76AE46D37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A119-39AF-4A09-A9EF-13F0FE1B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96F4-ACA3-4550-B300-522ADF73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CD29-F430-4058-86FE-081500F2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B78F-E17C-4406-88ED-A49845BD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2DB8-3C0C-4574-814F-1793F615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31B5-7955-48AE-A372-A51EF6DE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B706-BEC0-4B22-9795-D6F830F4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B491-2D27-4FBE-83B9-430ABD56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D0E823-642E-41C8-A650-144CA19D0A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